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gif" ContentType="image/gif"/>
  <Override PartName="/ppt/media/image4.png" ContentType="image/png"/>
  <Override PartName="/ppt/media/image5.gif" ContentType="image/gif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D20D-6E52-4126-AFC3-3FD23C4D1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8962-11B2-4BE0-8C79-C63106B84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73B4-B871-4629-AFD2-457642DDA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C71F-17F6-41F6-879E-0872E5700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E75D-1324-4E82-8281-39C26CAF3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ADEE-E07A-434A-BB78-5DA6786E4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48C2-8F67-4BDB-AA76-6CEAFC2C8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6C05-7777-4CD9-A4DF-61154199E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E16C-380E-4E5E-8961-DDDC8C1E8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D024-5B52-46E2-9CE4-BC1EF1BE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22B7-D553-4AD2-B28D-92FBA661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0CF0-6D09-43F5-9133-1024FAD5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0F4F2-4B9E-40B9-8997-23D49875C3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13"/>
          <p:cNvSpPr txBox="1"/>
          <p:nvPr/>
        </p:nvSpPr>
        <p:spPr>
          <a:xfrm>
            <a:off x="2079720" y="115920"/>
            <a:ext cx="5182920" cy="72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Monotype Corsiva"/>
              </a:rPr>
              <a:t>Экономическая игр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Monotype Corsiva"/>
              <a:ea typeface="Monotype Corsiva"/>
            </a:endParaRPr>
          </a:p>
        </p:txBody>
      </p:sp>
      <p:sp>
        <p:nvSpPr>
          <p:cNvPr id="43" name="WordArt 14"/>
          <p:cNvSpPr txBox="1"/>
          <p:nvPr/>
        </p:nvSpPr>
        <p:spPr>
          <a:xfrm>
            <a:off x="2195640" y="1095480"/>
            <a:ext cx="5182920" cy="136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Monotype Corsiva"/>
              </a:rPr>
              <a:t>" Аукцион 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Monotype Corsiva"/>
              <a:ea typeface="Monotype Corsiva"/>
            </a:endParaRPr>
          </a:p>
        </p:txBody>
      </p:sp>
      <p:sp>
        <p:nvSpPr>
          <p:cNvPr id="44" name="WordArt 15"/>
          <p:cNvSpPr txBox="1"/>
          <p:nvPr/>
        </p:nvSpPr>
        <p:spPr>
          <a:xfrm>
            <a:off x="755640" y="3573360"/>
            <a:ext cx="74008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Тема: "Рынок труда. Безработиц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9 клас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45" name="j0212150.wav" descr=""/>
          <p:cNvPicPr/>
          <p:nvPr/>
        </p:nvPicPr>
        <p:blipFill>
          <a:blip r:embed="rId5"/>
          <a:stretch/>
        </p:blipFill>
        <p:spPr>
          <a:xfrm>
            <a:off x="900000" y="56595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6" name="WordArt 4"/>
          <p:cNvSpPr txBox="1"/>
          <p:nvPr/>
        </p:nvSpPr>
        <p:spPr>
          <a:xfrm>
            <a:off x="2484360" y="5094360"/>
            <a:ext cx="640872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Учитель информатики и экономики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МБОУ Каяльской СОШ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Юмагулова Светлана Николаевн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4745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04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Спрос на услуги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05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324000" y="4365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468360" y="292428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 какой формуле измеряется предельный продукт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9"/>
              <p:cNvSpPr txBox="1"/>
              <p:nvPr/>
            </p:nvSpPr>
            <p:spPr>
              <a:xfrm>
                <a:off x="2484360" y="4797360"/>
                <a:ext cx="302436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P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Q</m:t>
                        </m:r>
                      </m:num>
                      <m:den>
                        <m:r>
                          <m:t xml:space="preserve">Δ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1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Спрос на услуги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12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324000" y="4365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179280" y="2924280"/>
            <a:ext cx="896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должите фразу: «Если фирма стремится максимизировать прибыль, то она должна увеличивать затраты труда до тех пор, пока…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58920" y="5013360"/>
            <a:ext cx="8785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нежный доход от предельного продукта не сравняется с денежными затратами на него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*M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w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едложени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19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324000" y="4365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179280" y="292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му равна альтернативная стоимость 1 часа досуг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358920" y="5013360"/>
            <a:ext cx="87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асовой ставке заработной пла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25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едложени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26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324000" y="42210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179280" y="292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м объясняется положительный наклон кривой предложения тру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358920" y="4941720"/>
            <a:ext cx="87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ффектом замены, который сокращает часы отдыха и заменяет их часами работы, т.е. доход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32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едложени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33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324000" y="4365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179280" y="292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м объясняется отрицательный наклон кривой предложения тру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358920" y="4941720"/>
            <a:ext cx="87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ффектом дохода, который сокращает часы работы и заменяет их часами отдых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39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едложени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40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324000" y="4149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179280" y="292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показывает вертикальная кривая предложения на рынке тру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358920" y="4797360"/>
            <a:ext cx="87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ффект дохода полностью компенсирует эффект замены, т.е. они разнонаправленны, но по абсолютной величине рав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46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едложени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47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324000" y="371628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179280" y="292428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такое рыночное  предложение тру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358920" y="4581360"/>
            <a:ext cx="87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умма объемов предложения труда всех работников при каждой возможной ставке заработной пла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53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Формирование з/п на рынк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54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32400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79280" y="292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гда ставка заработной платы является равновесн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358920" y="4437000"/>
            <a:ext cx="878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при сложившемся ее уровне количество людей, желающих получить работу, и число рабочих мест, предлагаемых работодателем совпадаю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60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Формирование з/п на рынк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61" name="WordArt 4"/>
          <p:cNvSpPr txBox="1"/>
          <p:nvPr/>
        </p:nvSpPr>
        <p:spPr>
          <a:xfrm>
            <a:off x="1187280" y="2060640"/>
            <a:ext cx="6842160" cy="4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673272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179280" y="2565360"/>
            <a:ext cx="89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ите по графику равновесную ставку и равновесное количество занят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37"/>
          <p:cNvGrpSpPr/>
          <p:nvPr/>
        </p:nvGrpSpPr>
        <p:grpSpPr>
          <a:xfrm>
            <a:off x="1908000" y="4076640"/>
            <a:ext cx="4105440" cy="2782800"/>
            <a:chOff x="1908000" y="4076640"/>
            <a:chExt cx="4105440" cy="2782800"/>
          </a:xfrm>
        </p:grpSpPr>
        <p:sp>
          <p:nvSpPr>
            <p:cNvPr id="166" name="Line 9"/>
            <p:cNvSpPr/>
            <p:nvPr/>
          </p:nvSpPr>
          <p:spPr>
            <a:xfrm flipV="1">
              <a:off x="2627280" y="4292280"/>
              <a:ext cx="0" cy="20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0"/>
            <p:cNvSpPr/>
            <p:nvPr/>
          </p:nvSpPr>
          <p:spPr>
            <a:xfrm>
              <a:off x="2627280" y="6381720"/>
              <a:ext cx="30243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1"/>
            <p:cNvSpPr/>
            <p:nvPr/>
          </p:nvSpPr>
          <p:spPr>
            <a:xfrm>
              <a:off x="2627280" y="407664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(руб/ч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2"/>
            <p:cNvSpPr/>
            <p:nvPr/>
          </p:nvSpPr>
          <p:spPr>
            <a:xfrm>
              <a:off x="5076720" y="595008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(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чел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13"/>
            <p:cNvSpPr/>
            <p:nvPr/>
          </p:nvSpPr>
          <p:spPr>
            <a:xfrm>
              <a:off x="3492360" y="6237360"/>
              <a:ext cx="0" cy="216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14"/>
            <p:cNvSpPr/>
            <p:nvPr/>
          </p:nvSpPr>
          <p:spPr>
            <a:xfrm>
              <a:off x="3059280" y="6237360"/>
              <a:ext cx="0" cy="216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15"/>
            <p:cNvSpPr/>
            <p:nvPr/>
          </p:nvSpPr>
          <p:spPr>
            <a:xfrm>
              <a:off x="3851280" y="6237360"/>
              <a:ext cx="0" cy="216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16"/>
            <p:cNvSpPr/>
            <p:nvPr/>
          </p:nvSpPr>
          <p:spPr>
            <a:xfrm>
              <a:off x="4211640" y="6237360"/>
              <a:ext cx="0" cy="216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7"/>
            <p:cNvSpPr/>
            <p:nvPr/>
          </p:nvSpPr>
          <p:spPr>
            <a:xfrm>
              <a:off x="4643280" y="6237360"/>
              <a:ext cx="0" cy="216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9"/>
            <p:cNvSpPr/>
            <p:nvPr/>
          </p:nvSpPr>
          <p:spPr>
            <a:xfrm flipV="1">
              <a:off x="2843280" y="4724280"/>
              <a:ext cx="2520720" cy="115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0"/>
            <p:cNvSpPr/>
            <p:nvPr/>
          </p:nvSpPr>
          <p:spPr>
            <a:xfrm>
              <a:off x="2916360" y="4508640"/>
              <a:ext cx="1655640" cy="151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22"/>
            <p:cNvSpPr/>
            <p:nvPr/>
          </p:nvSpPr>
          <p:spPr>
            <a:xfrm>
              <a:off x="3635280" y="64911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23"/>
            <p:cNvSpPr/>
            <p:nvPr/>
          </p:nvSpPr>
          <p:spPr>
            <a:xfrm>
              <a:off x="2771640" y="64911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24"/>
            <p:cNvSpPr/>
            <p:nvPr/>
          </p:nvSpPr>
          <p:spPr>
            <a:xfrm>
              <a:off x="3276720" y="64911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25"/>
            <p:cNvSpPr/>
            <p:nvPr/>
          </p:nvSpPr>
          <p:spPr>
            <a:xfrm>
              <a:off x="3995640" y="64911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26"/>
            <p:cNvSpPr/>
            <p:nvPr/>
          </p:nvSpPr>
          <p:spPr>
            <a:xfrm>
              <a:off x="4427640" y="64911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8"/>
            <p:cNvSpPr/>
            <p:nvPr/>
          </p:nvSpPr>
          <p:spPr>
            <a:xfrm>
              <a:off x="2484360" y="4941720"/>
              <a:ext cx="216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29"/>
            <p:cNvSpPr/>
            <p:nvPr/>
          </p:nvSpPr>
          <p:spPr>
            <a:xfrm>
              <a:off x="2484360" y="5373720"/>
              <a:ext cx="216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30"/>
            <p:cNvSpPr/>
            <p:nvPr/>
          </p:nvSpPr>
          <p:spPr>
            <a:xfrm>
              <a:off x="2484360" y="5877000"/>
              <a:ext cx="216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31"/>
            <p:cNvSpPr/>
            <p:nvPr/>
          </p:nvSpPr>
          <p:spPr>
            <a:xfrm>
              <a:off x="2484360" y="4508640"/>
              <a:ext cx="216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33"/>
            <p:cNvSpPr/>
            <p:nvPr/>
          </p:nvSpPr>
          <p:spPr>
            <a:xfrm>
              <a:off x="1908000" y="566100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34"/>
            <p:cNvSpPr/>
            <p:nvPr/>
          </p:nvSpPr>
          <p:spPr>
            <a:xfrm>
              <a:off x="1908000" y="515772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35"/>
            <p:cNvSpPr/>
            <p:nvPr/>
          </p:nvSpPr>
          <p:spPr>
            <a:xfrm>
              <a:off x="1908000" y="472428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36"/>
            <p:cNvSpPr/>
            <p:nvPr/>
          </p:nvSpPr>
          <p:spPr>
            <a:xfrm>
              <a:off x="1908000" y="429264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Text Box 38"/>
          <p:cNvSpPr/>
          <p:nvPr/>
        </p:nvSpPr>
        <p:spPr>
          <a:xfrm>
            <a:off x="6516720" y="4724280"/>
            <a:ext cx="244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150 руб/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30 ч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92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ичины различий в уровнях оплаты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93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32400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179280" y="292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зовите главные факторы, определяющие уровень оплаты тру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358920" y="4437000"/>
            <a:ext cx="87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ожность труда, тягость труда, ограниченность талантов, степень рис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4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8" name="WordArt 5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9" name="WordArt 6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Экономическая природа рынка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468360" y="306864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скройте понятие рынка тру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358920" y="450864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совокупность экономических и юридических процедур, позволяющих людям обменивать свои трудовые услуги на заработную пла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395280" y="3933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0">
            <a:hlinkClick r:id="" action="ppaction://hlinkshowjump?jump=nextslide"/>
            <a:hlinkClick r:id="rId3"/>
          </p:cNvPr>
          <p:cNvSpPr/>
          <p:nvPr/>
        </p:nvSpPr>
        <p:spPr>
          <a:xfrm>
            <a:off x="7812000" y="5805360"/>
            <a:ext cx="863640" cy="71928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33" h="21600">
                <a:moveTo>
                  <a:pt x="0" y="0"/>
                </a:moveTo>
                <a:lnTo>
                  <a:pt x="25933" y="0"/>
                </a:lnTo>
                <a:lnTo>
                  <a:pt x="25933" y="21600"/>
                </a:lnTo>
                <a:lnTo>
                  <a:pt x="0" y="21600"/>
                </a:lnTo>
                <a:close/>
              </a:path>
              <a:path fill="lightenLess" w="25933" h="21600">
                <a:moveTo>
                  <a:pt x="0" y="0"/>
                </a:moveTo>
                <a:lnTo>
                  <a:pt x="25933" y="0"/>
                </a:lnTo>
                <a:lnTo>
                  <a:pt x="24533" y="1400"/>
                </a:lnTo>
                <a:lnTo>
                  <a:pt x="1400" y="1400"/>
                </a:lnTo>
                <a:close/>
              </a:path>
              <a:path fill="darken" w="25933" h="21600">
                <a:moveTo>
                  <a:pt x="25933" y="0"/>
                </a:moveTo>
                <a:lnTo>
                  <a:pt x="25933" y="21600"/>
                </a:lnTo>
                <a:lnTo>
                  <a:pt x="24533" y="20200"/>
                </a:lnTo>
                <a:lnTo>
                  <a:pt x="24533" y="1400"/>
                </a:lnTo>
                <a:close/>
              </a:path>
              <a:path fill="darkenLess" w="25933" h="21600">
                <a:moveTo>
                  <a:pt x="25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3" y="20200"/>
                </a:lnTo>
                <a:close/>
              </a:path>
              <a:path fill="lighten" w="25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33" h="21600">
                <a:moveTo>
                  <a:pt x="5960" y="3794"/>
                </a:moveTo>
                <a:lnTo>
                  <a:pt x="19973" y="10800"/>
                </a:lnTo>
                <a:lnTo>
                  <a:pt x="5960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99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офсоюзы на рынк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00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32400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179280" y="292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м определяется заработная плата рабочих, объединенных в профсоюз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358920" y="4437000"/>
            <a:ext cx="87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равновесием между спросом и предложением, а коллективным договором между профсоюзом и фир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06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офсоюзы на рынк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07" name="WordArt 4"/>
          <p:cNvSpPr txBox="1"/>
          <p:nvPr/>
        </p:nvSpPr>
        <p:spPr>
          <a:xfrm>
            <a:off x="1187280" y="2133720"/>
            <a:ext cx="68421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5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32400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179280" y="2708280"/>
            <a:ext cx="89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кономисты считают, что профсоюзы могут стать источником инфляции. Так ли э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0" y="4508640"/>
            <a:ext cx="878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повышение з/п не сопровождается ростом производительности труда, то издержки фирмы возрастают, т.е. возникает инфляция пред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13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Что такое безработиц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14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32400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179280" y="292428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определяется уровень безработиц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9"/>
              <p:cNvSpPr txBox="1"/>
              <p:nvPr/>
            </p:nvSpPr>
            <p:spPr>
              <a:xfrm>
                <a:off x="468360" y="4581360"/>
                <a:ext cx="79200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уровень безработицы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безработные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рабочая сила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20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Что такое безработиц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21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32400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179280" y="292428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определяется уровень занято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8"/>
              <p:cNvSpPr txBox="1"/>
              <p:nvPr/>
            </p:nvSpPr>
            <p:spPr>
              <a:xfrm>
                <a:off x="749160" y="4581360"/>
                <a:ext cx="73566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уровень занятости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занятые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рабочая сила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27" name="WordArt 3"/>
          <p:cNvSpPr txBox="1"/>
          <p:nvPr/>
        </p:nvSpPr>
        <p:spPr>
          <a:xfrm>
            <a:off x="1258920" y="1125360"/>
            <a:ext cx="662616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Виды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28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32400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179280" y="292428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ечислите виды безработ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358920" y="4724280"/>
            <a:ext cx="87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рикционная, структурная, циклическая, сезонн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34" name="WordArt 3"/>
          <p:cNvSpPr txBox="1"/>
          <p:nvPr/>
        </p:nvSpPr>
        <p:spPr>
          <a:xfrm>
            <a:off x="1258920" y="1125360"/>
            <a:ext cx="662616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Виды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35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324000" y="4941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7"/>
          <p:cNvSpPr/>
          <p:nvPr/>
        </p:nvSpPr>
        <p:spPr>
          <a:xfrm>
            <a:off x="179280" y="2997360"/>
            <a:ext cx="896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какому типу безработицы относится безработный бухгалтер, уволившийся из-за сложных отношений с директором и ищущий работу по специальнос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755640" y="55166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рикционная безработ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41" name="WordArt 3"/>
          <p:cNvSpPr txBox="1"/>
          <p:nvPr/>
        </p:nvSpPr>
        <p:spPr>
          <a:xfrm>
            <a:off x="1258920" y="1125360"/>
            <a:ext cx="662616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Виды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42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324000" y="530064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179280" y="2924280"/>
            <a:ext cx="896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какому типу безработицы относятся стеклодувы, которые много лет тому назад остались без работы из-за изобретения специальных станков для изготовления бутыл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755640" y="580536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уктурная безработ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48" name="WordArt 3"/>
          <p:cNvSpPr txBox="1"/>
          <p:nvPr/>
        </p:nvSpPr>
        <p:spPr>
          <a:xfrm>
            <a:off x="1258920" y="1125360"/>
            <a:ext cx="662616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Виды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49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324000" y="450864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179280" y="299736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какому типу безработицы относятся рабочие обувной фабрики, уволенные из-за кризис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755640" y="55166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иклическая безработ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55" name="WordArt 3"/>
          <p:cNvSpPr txBox="1"/>
          <p:nvPr/>
        </p:nvSpPr>
        <p:spPr>
          <a:xfrm>
            <a:off x="1258920" y="1125360"/>
            <a:ext cx="662616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Виды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56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324000" y="4941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179280" y="2997360"/>
            <a:ext cx="896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какому типу безработицы относится владелец водных аттракционов на Черном море в декабр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8"/>
          <p:cNvSpPr/>
          <p:nvPr/>
        </p:nvSpPr>
        <p:spPr>
          <a:xfrm>
            <a:off x="755640" y="55166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зонная безработ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62" name="WordArt 3"/>
          <p:cNvSpPr txBox="1"/>
          <p:nvPr/>
        </p:nvSpPr>
        <p:spPr>
          <a:xfrm>
            <a:off x="468360" y="1125360"/>
            <a:ext cx="835164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олная занятость и сокращение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63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395280" y="44370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179280" y="299736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ие виды безработицы составляют естественный уровень безработиц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755640" y="515772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рикционная и структурная безработ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4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5" name="WordArt 5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Экономическая природа рынка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56" name="WordArt 6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395280" y="3933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8">
            <a:hlinkClick r:id="" action="ppaction://hlinkshowjump?jump=nextslide"/>
            <a:hlinkClick r:id="rId3"/>
          </p:cNvPr>
          <p:cNvSpPr/>
          <p:nvPr/>
        </p:nvSpPr>
        <p:spPr>
          <a:xfrm>
            <a:off x="7812000" y="5805360"/>
            <a:ext cx="863640" cy="71928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33" h="21600">
                <a:moveTo>
                  <a:pt x="0" y="0"/>
                </a:moveTo>
                <a:lnTo>
                  <a:pt x="25933" y="0"/>
                </a:lnTo>
                <a:lnTo>
                  <a:pt x="25933" y="21600"/>
                </a:lnTo>
                <a:lnTo>
                  <a:pt x="0" y="21600"/>
                </a:lnTo>
                <a:close/>
              </a:path>
              <a:path fill="lightenLess" w="25933" h="21600">
                <a:moveTo>
                  <a:pt x="0" y="0"/>
                </a:moveTo>
                <a:lnTo>
                  <a:pt x="25933" y="0"/>
                </a:lnTo>
                <a:lnTo>
                  <a:pt x="24533" y="1400"/>
                </a:lnTo>
                <a:lnTo>
                  <a:pt x="1400" y="1400"/>
                </a:lnTo>
                <a:close/>
              </a:path>
              <a:path fill="darken" w="25933" h="21600">
                <a:moveTo>
                  <a:pt x="25933" y="0"/>
                </a:moveTo>
                <a:lnTo>
                  <a:pt x="25933" y="21600"/>
                </a:lnTo>
                <a:lnTo>
                  <a:pt x="24533" y="20200"/>
                </a:lnTo>
                <a:lnTo>
                  <a:pt x="24533" y="1400"/>
                </a:lnTo>
                <a:close/>
              </a:path>
              <a:path fill="darkenLess" w="25933" h="21600">
                <a:moveTo>
                  <a:pt x="25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3" y="20200"/>
                </a:lnTo>
                <a:close/>
              </a:path>
              <a:path fill="lighten" w="25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33" h="21600">
                <a:moveTo>
                  <a:pt x="5960" y="3794"/>
                </a:moveTo>
                <a:lnTo>
                  <a:pt x="19973" y="10800"/>
                </a:lnTo>
                <a:lnTo>
                  <a:pt x="5960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468360" y="306864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чем особенность рынка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358920" y="450864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давцы и покупатели меняются местами: покупателями услуг труда являются фирмы, а продавцами – люди, предлагающие эти услу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69" name="WordArt 3"/>
          <p:cNvSpPr txBox="1"/>
          <p:nvPr/>
        </p:nvSpPr>
        <p:spPr>
          <a:xfrm>
            <a:off x="468360" y="1125360"/>
            <a:ext cx="835164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олная занятость и сокращение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70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395280" y="44370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179280" y="299736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называется экономическим потенциалом стран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755640" y="515772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ъем производства товаров и услуг при полной занятости ресур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3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76" name="WordArt 3"/>
          <p:cNvSpPr txBox="1"/>
          <p:nvPr/>
        </p:nvSpPr>
        <p:spPr>
          <a:xfrm>
            <a:off x="468360" y="1125360"/>
            <a:ext cx="835164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олная занятость и сокращение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77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395280" y="386064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179280" y="29973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предполагает полная занятость ресурс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468360" y="4508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загруженные производственные мощности на уровне 10-20% и естественный уровень безработицы на уровне 5,5-6,5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4" descr="ab7c15776273314921002d29fb57d9f1"/>
          <p:cNvPicPr/>
          <p:nvPr/>
        </p:nvPicPr>
        <p:blipFill>
          <a:blip r:embed="rId1"/>
          <a:stretch/>
        </p:blipFill>
        <p:spPr>
          <a:xfrm>
            <a:off x="6012000" y="3141720"/>
            <a:ext cx="2268360" cy="2597040"/>
          </a:xfrm>
          <a:prstGeom prst="rect">
            <a:avLst/>
          </a:prstGeom>
          <a:ln w="0">
            <a:noFill/>
          </a:ln>
        </p:spPr>
      </p:pic>
      <p:sp>
        <p:nvSpPr>
          <p:cNvPr id="283" name="AutoShape 5"/>
          <p:cNvSpPr/>
          <p:nvPr/>
        </p:nvSpPr>
        <p:spPr>
          <a:xfrm flipH="1">
            <a:off x="324000" y="260280"/>
            <a:ext cx="4465440" cy="4176720"/>
          </a:xfrm>
          <a:prstGeom prst="cloudCallout">
            <a:avLst>
              <a:gd name="adj1" fmla="val -90634"/>
              <a:gd name="adj2" fmla="val 35898"/>
            </a:avLst>
          </a:prstGeom>
          <a:solidFill>
            <a:srgbClr val="ff99cc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WordArt 6"/>
          <p:cNvSpPr txBox="1"/>
          <p:nvPr/>
        </p:nvSpPr>
        <p:spPr>
          <a:xfrm>
            <a:off x="1042920" y="981000"/>
            <a:ext cx="338472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Monotype Corsiva"/>
              </a:rPr>
              <a:t>Спасиб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Monotype Corsiva"/>
              </a:rPr>
              <a:t>з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Monotype Corsiva"/>
              </a:rPr>
              <a:t>внимание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Monotype Corsiva"/>
              <a:ea typeface="Monotype Corsiva"/>
            </a:endParaRPr>
          </a:p>
        </p:txBody>
      </p:sp>
      <p:pic>
        <p:nvPicPr>
          <p:cNvPr id="285" name="j0212430.wav" descr=""/>
          <p:cNvPicPr/>
          <p:nvPr/>
        </p:nvPicPr>
        <p:blipFill>
          <a:blip r:embed="rId8"/>
          <a:stretch/>
        </p:blipFill>
        <p:spPr>
          <a:xfrm>
            <a:off x="8101080" y="5877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0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1" dur="4745" fill="hold"/>
                                        <p:tgtEl>
                                          <p:spTgt spid="2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2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Экономическая природа рынка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63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395280" y="429264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12000" y="5805360"/>
            <a:ext cx="863640" cy="71928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33" h="21600">
                <a:moveTo>
                  <a:pt x="0" y="0"/>
                </a:moveTo>
                <a:lnTo>
                  <a:pt x="25933" y="0"/>
                </a:lnTo>
                <a:lnTo>
                  <a:pt x="25933" y="21600"/>
                </a:lnTo>
                <a:lnTo>
                  <a:pt x="0" y="21600"/>
                </a:lnTo>
                <a:close/>
              </a:path>
              <a:path fill="lightenLess" w="25933" h="21600">
                <a:moveTo>
                  <a:pt x="0" y="0"/>
                </a:moveTo>
                <a:lnTo>
                  <a:pt x="25933" y="0"/>
                </a:lnTo>
                <a:lnTo>
                  <a:pt x="24533" y="1400"/>
                </a:lnTo>
                <a:lnTo>
                  <a:pt x="1400" y="1400"/>
                </a:lnTo>
                <a:close/>
              </a:path>
              <a:path fill="darken" w="25933" h="21600">
                <a:moveTo>
                  <a:pt x="25933" y="0"/>
                </a:moveTo>
                <a:lnTo>
                  <a:pt x="25933" y="21600"/>
                </a:lnTo>
                <a:lnTo>
                  <a:pt x="24533" y="20200"/>
                </a:lnTo>
                <a:lnTo>
                  <a:pt x="24533" y="1400"/>
                </a:lnTo>
                <a:close/>
              </a:path>
              <a:path fill="darkenLess" w="25933" h="21600">
                <a:moveTo>
                  <a:pt x="25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3" y="20200"/>
                </a:lnTo>
                <a:close/>
              </a:path>
              <a:path fill="lighten" w="25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33" h="21600">
                <a:moveTo>
                  <a:pt x="5960" y="3794"/>
                </a:moveTo>
                <a:lnTo>
                  <a:pt x="19973" y="10800"/>
                </a:lnTo>
                <a:lnTo>
                  <a:pt x="5960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468360" y="278136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продается и покупается на рынке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358920" y="522936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луги тр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9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Экономическая природа рынка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70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395280" y="3933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12000" y="5805360"/>
            <a:ext cx="863640" cy="71928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33" h="21600">
                <a:moveTo>
                  <a:pt x="0" y="0"/>
                </a:moveTo>
                <a:lnTo>
                  <a:pt x="25933" y="0"/>
                </a:lnTo>
                <a:lnTo>
                  <a:pt x="25933" y="21600"/>
                </a:lnTo>
                <a:lnTo>
                  <a:pt x="0" y="21600"/>
                </a:lnTo>
                <a:close/>
              </a:path>
              <a:path fill="lightenLess" w="25933" h="21600">
                <a:moveTo>
                  <a:pt x="0" y="0"/>
                </a:moveTo>
                <a:lnTo>
                  <a:pt x="25933" y="0"/>
                </a:lnTo>
                <a:lnTo>
                  <a:pt x="24533" y="1400"/>
                </a:lnTo>
                <a:lnTo>
                  <a:pt x="1400" y="1400"/>
                </a:lnTo>
                <a:close/>
              </a:path>
              <a:path fill="darken" w="25933" h="21600">
                <a:moveTo>
                  <a:pt x="25933" y="0"/>
                </a:moveTo>
                <a:lnTo>
                  <a:pt x="25933" y="21600"/>
                </a:lnTo>
                <a:lnTo>
                  <a:pt x="24533" y="20200"/>
                </a:lnTo>
                <a:lnTo>
                  <a:pt x="24533" y="1400"/>
                </a:lnTo>
                <a:close/>
              </a:path>
              <a:path fill="darkenLess" w="25933" h="21600">
                <a:moveTo>
                  <a:pt x="25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3" y="20200"/>
                </a:lnTo>
                <a:close/>
              </a:path>
              <a:path fill="lighten" w="25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33" h="21600">
                <a:moveTo>
                  <a:pt x="5960" y="3794"/>
                </a:moveTo>
                <a:lnTo>
                  <a:pt x="19973" y="10800"/>
                </a:lnTo>
                <a:lnTo>
                  <a:pt x="5960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468360" y="306864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является ценой услуг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358920" y="4508640"/>
            <a:ext cx="87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авка заработной платы, т.е. заработная плата работников за 1 час отработанного врем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76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Экономическая природа рынка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77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395280" y="3933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12000" y="5805360"/>
            <a:ext cx="863640" cy="71928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33" h="21600">
                <a:moveTo>
                  <a:pt x="0" y="0"/>
                </a:moveTo>
                <a:lnTo>
                  <a:pt x="25933" y="0"/>
                </a:lnTo>
                <a:lnTo>
                  <a:pt x="25933" y="21600"/>
                </a:lnTo>
                <a:lnTo>
                  <a:pt x="0" y="21600"/>
                </a:lnTo>
                <a:close/>
              </a:path>
              <a:path fill="lightenLess" w="25933" h="21600">
                <a:moveTo>
                  <a:pt x="0" y="0"/>
                </a:moveTo>
                <a:lnTo>
                  <a:pt x="25933" y="0"/>
                </a:lnTo>
                <a:lnTo>
                  <a:pt x="24533" y="1400"/>
                </a:lnTo>
                <a:lnTo>
                  <a:pt x="1400" y="1400"/>
                </a:lnTo>
                <a:close/>
              </a:path>
              <a:path fill="darken" w="25933" h="21600">
                <a:moveTo>
                  <a:pt x="25933" y="0"/>
                </a:moveTo>
                <a:lnTo>
                  <a:pt x="25933" y="21600"/>
                </a:lnTo>
                <a:lnTo>
                  <a:pt x="24533" y="20200"/>
                </a:lnTo>
                <a:lnTo>
                  <a:pt x="24533" y="1400"/>
                </a:lnTo>
                <a:close/>
              </a:path>
              <a:path fill="darkenLess" w="25933" h="21600">
                <a:moveTo>
                  <a:pt x="25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3" y="20200"/>
                </a:lnTo>
                <a:close/>
              </a:path>
              <a:path fill="lighten" w="25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33" h="21600">
                <a:moveTo>
                  <a:pt x="5960" y="3794"/>
                </a:moveTo>
                <a:lnTo>
                  <a:pt x="19973" y="10800"/>
                </a:lnTo>
                <a:lnTo>
                  <a:pt x="5960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468360" y="306864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такое монопсони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358920" y="450864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ынок одного покупателя, когда он влияет на формирование цен в большей степени, чем остальные участ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83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Спрос на услуги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84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324000" y="4365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468360" y="292428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показывает кривая спроса фирмы на услуги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358920" y="5013360"/>
            <a:ext cx="87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изменяется количество покупаемых услуг труда в зависимости от изменения ставки заработной пл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90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Спрос на услуги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91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24000" y="4365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468360" y="292428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 звучит закон спроса для рынка 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358920" y="501336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м выше плата, которую работники требуют за свой труд, тем меньше их число готовы нанять работодат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97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Спрос на услуги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98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324000" y="4365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468360" y="292428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показывает предельный продукт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358920" y="501336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изменяется общий продукт труда при изменении трудозатрат на одну единицу и при прочих равных услов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2T02:28:27Z</dcterms:created>
  <dc:creator/>
  <dc:description/>
  <dc:language>en-US</dc:language>
  <cp:lastModifiedBy>МОУ Каяльская СОШ</cp:lastModifiedBy>
  <dcterms:modified xsi:type="dcterms:W3CDTF">2011-12-14T11:22:59Z</dcterms:modified>
  <cp:revision>49</cp:revision>
  <dc:subject/>
  <dc:title>Основы компьютерной графики</dc:title>
</cp:coreProperties>
</file>